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5DE-505B-4903-AAF1-772ABBDB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F45-6B4E-4062-8EE8-C2E22EB9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CF9-2B88-4A73-9DAB-E41CC875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770-8EDB-498C-A901-80E33B68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CDC-ADC1-405E-9721-C38D4889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B06-004C-4D51-B942-E8402636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7A7-5255-4465-9139-3F09180F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ED7-0D84-41FE-A516-11199E8C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DA5-CEA9-4BDE-BE85-3CEF06A8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F25-79F8-42A5-B76B-C775EC4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84F-62D0-44F0-A850-59C2A92E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F43-BA72-430B-8B9C-630061B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CFAA-11E4-4716-BDD4-719EC2FEE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a3b0a2">
                  <a:alpha val="6705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467480" y="251460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67000"/>
                  </a:srgbClr>
                </a:solidFill>
                <a:latin typeface="Arial Black"/>
              </a:rPr>
              <a:t>RunMC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67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20:48:03Z</dcterms:created>
  <dc:creator>home</dc:creator>
  <dc:description/>
  <dc:language>en-US</dc:language>
  <cp:lastModifiedBy>home</cp:lastModifiedBy>
  <dcterms:modified xsi:type="dcterms:W3CDTF">2004-08-12T21:08:29Z</dcterms:modified>
  <cp:revision>3</cp:revision>
  <dc:subject/>
  <dc:title>Slide 1</dc:title>
</cp:coreProperties>
</file>