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19C-26F1-440E-95AB-96B399F7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F4D-F2EF-40A4-A477-DCFF8AA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535-5AC4-44C2-A027-78A5E956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A48-BBFE-43C6-97C6-9D75F59A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38E-4D73-4FCE-83D6-83086ED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B45-D685-4C5E-B15D-5172ADE4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3DC-06EC-4D56-872B-7EA1E557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CCA-E048-451A-9870-D3EE2F9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957-77A0-4366-B799-87D7C66E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998-DAD7-4635-BF4B-CFAED82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208-568D-4C05-A42D-6D3FAE7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5D2-199D-45B2-9719-EE1BEB1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BADE-5316-474F-9BC4-18EA72312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a3b0a2">
                  <a:alpha val="6705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67480" y="251460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67000"/>
                  </a:srgbClr>
                </a:solidFill>
                <a:latin typeface="Arial Black"/>
              </a:rPr>
              <a:t>RunMC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67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20:48:03Z</dcterms:created>
  <dc:creator>home</dc:creator>
  <dc:description/>
  <dc:language>en-US</dc:language>
  <cp:lastModifiedBy>home</cp:lastModifiedBy>
  <dcterms:modified xsi:type="dcterms:W3CDTF">2004-08-12T21:08:29Z</dcterms:modified>
  <cp:revision>3</cp:revision>
  <dc:subject/>
  <dc:title>Slide 1</dc:title>
</cp:coreProperties>
</file>