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7877C5-FD22-4200-85ED-B6CF1D9433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B73B0-47AA-4369-8473-20BADAA11C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D684-5CE3-4E6D-8C71-E7D66178FD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00B71-722B-421A-B989-0748B2DFE4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5F3DF-B503-48A7-BF2B-01D90B0313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57CC-A593-4E1A-9F88-A2C08EE35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4E11E-7436-449F-BEDF-B04F0857D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8EB16-C8F6-48AF-9969-9FCE4152C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0B08A-A2D9-4ACF-A66A-91FCEB512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4BB10-9708-4A2E-8AB4-0F43E3E4F1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C41D4-105C-412B-BEDA-0C65EC44A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FE7D-292F-400A-B755-98209A0C2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413323-DAA0-4129-9D06-BC33983154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2280" y="2286000"/>
            <a:ext cx="8839440" cy="762120"/>
          </a:xfrm>
          <a:prstGeom prst="rect">
            <a:avLst/>
          </a:prstGeom>
          <a:gradFill rotWithShape="0">
            <a:gsLst>
              <a:gs pos="0">
                <a:srgbClr val="0066ff"/>
              </a:gs>
              <a:gs pos="100000">
                <a:srgbClr val="a3b0a2">
                  <a:alpha val="67058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7467480" y="2514600"/>
            <a:ext cx="1447920" cy="3808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>
                    <a:alpha val="67000"/>
                  </a:srgbClr>
                </a:solidFill>
                <a:latin typeface="Arial Black"/>
              </a:rPr>
              <a:t>RunMC</a:t>
            </a:r>
            <a:endParaRPr b="1" lang="en-US" sz="2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>
                  <a:alpha val="67000"/>
                </a:srgbClr>
              </a:solidFill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2T20:48:03Z</dcterms:created>
  <dc:creator>home</dc:creator>
  <dc:description/>
  <dc:language>en-US</dc:language>
  <cp:lastModifiedBy>home</cp:lastModifiedBy>
  <dcterms:modified xsi:type="dcterms:W3CDTF">2004-08-12T21:08:29Z</dcterms:modified>
  <cp:revision>3</cp:revision>
  <dc:subject/>
  <dc:title>Slide 1</dc:title>
</cp:coreProperties>
</file>